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68FB-047E-4EAC-B596-F5CA3E16B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FE59-A2F0-4CBA-8403-FDA578789667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DCCE-CBDA-4D80-BBE2-C6ED0CFBCE2F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A974-7B2B-4ACE-AFB4-3E543483247D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DE5D-6C02-49B7-9174-D2063804CAF8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FBF9-0D03-4314-80C1-59F088674241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34D6-3924-4BFC-AD8F-3CADEA54BE38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F887-3D95-453D-8E38-1EEB0525EDC7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58DF-2AE8-4B85-9AE8-D0DDBDC78118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FBC6-92D3-44CA-B981-7F50F81ABC88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3E59-AF0C-447B-90FD-55C8F2AAFDD4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A044-ABEC-4064-8F4F-0F0D40D7B2CD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87EE-1302-431F-8B34-4BA90C24B87E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AE78-8121-4A80-A785-69890A94144A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A23C-0D1C-4D24-9502-A2EA0A28136F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71B8-E8FD-4799-B9BF-DA22E96BA9F6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FAD3-F2D6-4662-BC38-D83D13997007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E8E8-1A89-440D-931E-6E33BAFF2C83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9600" indent="-42300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2240" indent="-4233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4880" indent="-42300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79760" indent="-4233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12760" indent="-4233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12760" indent="-423360">
              <a:spcBef>
                <a:spcPts val="7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12760" indent="-423360">
              <a:spcBef>
                <a:spcPts val="7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ensus.gov/population/internationa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mailto:charles.bahan@mnps.org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rb.org/Educators/LessonPlans/2005/PopulationBuildingaFoundation/Activities/Activity3/Activity3Pyramid.aspx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00280" y="4572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Directions for finding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ge and Sex Statistics for your assigned country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 to: 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census.gov/population/internati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(get out your country sheet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Modified Directions Using 90yrs statistics"/>
          <p:cNvPicPr/>
          <p:nvPr/>
        </p:nvPicPr>
        <p:blipFill>
          <a:blip r:embed="rId1"/>
          <a:stretch/>
        </p:blipFill>
        <p:spPr>
          <a:xfrm>
            <a:off x="-177840" y="0"/>
            <a:ext cx="8458200" cy="94489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203040" y="681120"/>
            <a:ext cx="8229600" cy="916920"/>
          </a:xfrm>
          <a:prstGeom prst="rect">
            <a:avLst/>
          </a:prstGeom>
          <a:solidFill>
            <a:srgbClr val="bbe0e3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Note: Skip to #4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1676520"/>
            <a:ext cx="8128080" cy="5248080"/>
          </a:xfrm>
          <a:prstGeom prst="rect">
            <a:avLst/>
          </a:prstGeom>
          <a:ln w="0">
            <a:noFill/>
          </a:ln>
        </p:spPr>
      </p:pic>
      <p:sp>
        <p:nvSpPr>
          <p:cNvPr id="127" name="Line 3"/>
          <p:cNvSpPr/>
          <p:nvPr/>
        </p:nvSpPr>
        <p:spPr>
          <a:xfrm>
            <a:off x="5757840" y="2370240"/>
            <a:ext cx="490680" cy="98244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656240" y="2370240"/>
            <a:ext cx="1523880" cy="177804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2201760" y="6434280"/>
            <a:ext cx="1608120" cy="16956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95880" y="3295080"/>
            <a:ext cx="3522960" cy="243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ype in the statistics from the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ensus Bureau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r Males and Femal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619440" y="6273360"/>
            <a:ext cx="3061080" cy="975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ype in th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tal popul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727280" y="380880"/>
            <a:ext cx="6705360" cy="1139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pen up a Microsoft Excel Workbook 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 fill in the following…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6002280" y="1712520"/>
            <a:ext cx="2246400" cy="30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Jamaic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92200" y="423720"/>
            <a:ext cx="4935600" cy="4665960"/>
          </a:xfrm>
          <a:prstGeom prst="rect">
            <a:avLst/>
          </a:prstGeom>
          <a:ln w="0">
            <a:noFill/>
          </a:ln>
        </p:spPr>
      </p:pic>
      <p:sp>
        <p:nvSpPr>
          <p:cNvPr id="135" name="Line 3"/>
          <p:cNvSpPr/>
          <p:nvPr/>
        </p:nvSpPr>
        <p:spPr>
          <a:xfrm>
            <a:off x="5181480" y="668160"/>
            <a:ext cx="7747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902200" y="263520"/>
            <a:ext cx="3378240" cy="10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in B2 and type in the formul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0240" y="4910040"/>
            <a:ext cx="4419720" cy="238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ve the mouse to the bottom right corner of B2 and when the + appears drag the box down to B19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235240" y="1747800"/>
            <a:ext cx="0" cy="322596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842080" y="5757840"/>
            <a:ext cx="3809880" cy="13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***The statistics for Males will all be negative numbers.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23720" y="254160"/>
            <a:ext cx="4656240" cy="4448160"/>
          </a:xfrm>
          <a:prstGeom prst="rect">
            <a:avLst/>
          </a:prstGeom>
          <a:ln w="0">
            <a:noFill/>
          </a:ln>
        </p:spPr>
      </p:pic>
      <p:sp>
        <p:nvSpPr>
          <p:cNvPr id="141" name="Line 3"/>
          <p:cNvSpPr/>
          <p:nvPr/>
        </p:nvSpPr>
        <p:spPr>
          <a:xfrm>
            <a:off x="5079960" y="423720"/>
            <a:ext cx="7747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5842080" y="254160"/>
            <a:ext cx="3378240" cy="10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in C2 and type in the formul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100160" y="4648320"/>
            <a:ext cx="4421160" cy="238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ve the mouse to the bottom right corner of C2 and when the + appears drag the box down to C19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2676600" y="1486080"/>
            <a:ext cx="0" cy="322560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003320" y="711360"/>
            <a:ext cx="2514600" cy="3632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5460840" y="3556080"/>
            <a:ext cx="1752840" cy="3657600"/>
          </a:xfrm>
          <a:prstGeom prst="rect">
            <a:avLst/>
          </a:prstGeom>
          <a:ln w="0">
            <a:noFill/>
          </a:ln>
        </p:spPr>
      </p:pic>
      <p:sp>
        <p:nvSpPr>
          <p:cNvPr id="147" name="Line 4"/>
          <p:cNvSpPr/>
          <p:nvPr/>
        </p:nvSpPr>
        <p:spPr>
          <a:xfrm flipV="1">
            <a:off x="6793920" y="3276720"/>
            <a:ext cx="355320" cy="154944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3124080" y="1244520"/>
            <a:ext cx="990720" cy="1296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946680" y="952560"/>
            <a:ext cx="1726920" cy="55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ighligh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715080" y="1778040"/>
            <a:ext cx="2451240" cy="1473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to Insert and select “Chart...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228600" y="241200"/>
            <a:ext cx="6718320" cy="7142400"/>
          </a:xfrm>
          <a:prstGeom prst="rect">
            <a:avLst/>
          </a:prstGeom>
          <a:ln w="0">
            <a:noFill/>
          </a:ln>
        </p:spPr>
      </p:pic>
      <p:sp>
        <p:nvSpPr>
          <p:cNvPr id="152" name="Line 3"/>
          <p:cNvSpPr/>
          <p:nvPr/>
        </p:nvSpPr>
        <p:spPr>
          <a:xfrm>
            <a:off x="4863960" y="965160"/>
            <a:ext cx="1397160" cy="148608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2577960" y="1968480"/>
            <a:ext cx="3721320" cy="153684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Line 5"/>
          <p:cNvSpPr/>
          <p:nvPr/>
        </p:nvSpPr>
        <p:spPr>
          <a:xfrm flipV="1">
            <a:off x="2272680" y="4521240"/>
            <a:ext cx="3873240" cy="67320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Line 6"/>
          <p:cNvSpPr/>
          <p:nvPr/>
        </p:nvSpPr>
        <p:spPr>
          <a:xfrm flipH="1" flipV="1">
            <a:off x="6222600" y="4508280"/>
            <a:ext cx="25560" cy="232380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991120" y="2197080"/>
            <a:ext cx="3949920" cy="238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on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stom Types” “User-defined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opulation Pyramid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nish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220680" y="330120"/>
            <a:ext cx="9704520" cy="6680160"/>
          </a:xfrm>
          <a:prstGeom prst="rect">
            <a:avLst/>
          </a:prstGeom>
          <a:ln w="0">
            <a:noFill/>
          </a:ln>
        </p:spPr>
      </p:pic>
      <p:sp>
        <p:nvSpPr>
          <p:cNvPr id="158" name="Line 3"/>
          <p:cNvSpPr/>
          <p:nvPr/>
        </p:nvSpPr>
        <p:spPr>
          <a:xfrm>
            <a:off x="6362640" y="990720"/>
            <a:ext cx="7747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7045200" y="431640"/>
            <a:ext cx="2540160" cy="193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ype in the location for the population pyramid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4622760" y="837720"/>
            <a:ext cx="2244600" cy="30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Jamaic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3352680" y="504720"/>
            <a:ext cx="6432840" cy="6610320"/>
          </a:xfrm>
          <a:prstGeom prst="rect">
            <a:avLst/>
          </a:prstGeom>
          <a:ln w="0">
            <a:noFill/>
          </a:ln>
        </p:spPr>
      </p:pic>
      <p:sp>
        <p:nvSpPr>
          <p:cNvPr id="162" name="Line 5"/>
          <p:cNvSpPr/>
          <p:nvPr/>
        </p:nvSpPr>
        <p:spPr>
          <a:xfrm flipH="1" flipV="1">
            <a:off x="2349000" y="5714640"/>
            <a:ext cx="1536840" cy="1260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-117360" y="5247720"/>
            <a:ext cx="3516480" cy="975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on PDF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lect Save as PDF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517680" y="6493680"/>
            <a:ext cx="3190680" cy="9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mail to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charles.bahan@mnps.org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as an attachment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2031840" y="4826160"/>
            <a:ext cx="2034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Line 7"/>
          <p:cNvSpPr/>
          <p:nvPr/>
        </p:nvSpPr>
        <p:spPr>
          <a:xfrm flipH="1">
            <a:off x="7997760" y="685800"/>
            <a:ext cx="216216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Line 8"/>
          <p:cNvSpPr/>
          <p:nvPr/>
        </p:nvSpPr>
        <p:spPr>
          <a:xfrm flipH="1">
            <a:off x="4360680" y="5079960"/>
            <a:ext cx="207324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Line 9"/>
          <p:cNvSpPr/>
          <p:nvPr/>
        </p:nvSpPr>
        <p:spPr>
          <a:xfrm flipH="1">
            <a:off x="2285640" y="4826160"/>
            <a:ext cx="414828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6" name="Picture 1024" descr=""/>
          <p:cNvPicPr/>
          <p:nvPr/>
        </p:nvPicPr>
        <p:blipFill>
          <a:blip r:embed="rId1"/>
          <a:stretch/>
        </p:blipFill>
        <p:spPr>
          <a:xfrm>
            <a:off x="0" y="0"/>
            <a:ext cx="10032840" cy="8097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3632040" y="3200400"/>
            <a:ext cx="4191120" cy="155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"/>
              </a:rPr>
              <a:t>Click on International Data Bas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88" name="Straight Arrow Connector 4"/>
          <p:cNvCxnSpPr/>
          <p:nvPr/>
        </p:nvCxnSpPr>
        <p:spPr>
          <a:xfrm flipH="1" flipV="1">
            <a:off x="2869560" y="2979360"/>
            <a:ext cx="991080" cy="7675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89" name="Straight Arrow Connector 6"/>
          <p:cNvCxnSpPr/>
          <p:nvPr/>
        </p:nvCxnSpPr>
        <p:spPr>
          <a:xfrm flipH="1" flipV="1">
            <a:off x="1650600" y="2979000"/>
            <a:ext cx="2000880" cy="881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90" name="Straight Arrow Connector 8"/>
          <p:cNvCxnSpPr/>
          <p:nvPr/>
        </p:nvCxnSpPr>
        <p:spPr>
          <a:xfrm flipH="1" flipV="1">
            <a:off x="1497960" y="2979360"/>
            <a:ext cx="1448280" cy="1070640"/>
          </a:xfrm>
          <a:prstGeom prst="straightConnector1">
            <a:avLst/>
          </a:prstGeom>
          <a:ln w="0">
            <a:noFill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0240" y="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2" name="Line 3"/>
          <p:cNvSpPr/>
          <p:nvPr/>
        </p:nvSpPr>
        <p:spPr>
          <a:xfrm flipV="1">
            <a:off x="3942720" y="2933280"/>
            <a:ext cx="1517400" cy="38124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5460840" y="2229480"/>
            <a:ext cx="3276720" cy="146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nd name of assigned countr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>
            <a:off x="2946240" y="4630680"/>
            <a:ext cx="190044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903920" y="3966840"/>
            <a:ext cx="4038480" cy="975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nd Year 2000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on Submi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2717640" y="4800240"/>
            <a:ext cx="2281320" cy="198108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4"/>
          <p:cNvSpPr/>
          <p:nvPr/>
        </p:nvSpPr>
        <p:spPr>
          <a:xfrm flipH="1" flipV="1">
            <a:off x="7105320" y="7416360"/>
            <a:ext cx="825480" cy="50796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144360" y="93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Line 2"/>
          <p:cNvSpPr/>
          <p:nvPr/>
        </p:nvSpPr>
        <p:spPr>
          <a:xfrm>
            <a:off x="7104960" y="357120"/>
            <a:ext cx="144360" cy="144792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Line 3"/>
          <p:cNvSpPr/>
          <p:nvPr/>
        </p:nvSpPr>
        <p:spPr>
          <a:xfrm flipH="1">
            <a:off x="1422360" y="837360"/>
            <a:ext cx="914400" cy="96516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120600" y="1800360"/>
            <a:ext cx="2003400" cy="1295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nish filling in your country data shee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918040" y="1981080"/>
            <a:ext cx="2909880" cy="13464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ext click on Population Pyramid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17784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Line 4"/>
          <p:cNvSpPr/>
          <p:nvPr/>
        </p:nvSpPr>
        <p:spPr>
          <a:xfrm>
            <a:off x="3751200" y="6961320"/>
            <a:ext cx="925560" cy="22680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710240" y="6685920"/>
            <a:ext cx="3112920" cy="54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"/>
              </a:rPr>
              <a:t>Exc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3"/>
          <p:cNvSpPr/>
          <p:nvPr/>
        </p:nvSpPr>
        <p:spPr>
          <a:xfrm>
            <a:off x="2198520" y="-2133720"/>
            <a:ext cx="12319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806920" y="-2357640"/>
            <a:ext cx="2815560" cy="48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on “2000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4699080" y="2057400"/>
            <a:ext cx="1528560" cy="22860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6908760" y="2171880"/>
            <a:ext cx="3094200" cy="415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#1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ighlight  and copy Male Population rows D4-D20, (rt. click-copy) Now we need to put this data into our new population pyramids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(see next slide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ote: You will do the same for Female Pop rows E4-E20 as well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507960" y="3809880"/>
            <a:ext cx="259092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#2 add up the population in rows D-21 thru 24 and write the # down.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peat for rows E21-E2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Line 3"/>
          <p:cNvSpPr/>
          <p:nvPr/>
        </p:nvSpPr>
        <p:spPr>
          <a:xfrm flipH="1">
            <a:off x="3098880" y="5867280"/>
            <a:ext cx="236520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Line 3"/>
          <p:cNvSpPr/>
          <p:nvPr/>
        </p:nvSpPr>
        <p:spPr>
          <a:xfrm flipH="1" flipV="1">
            <a:off x="3098520" y="5867280"/>
            <a:ext cx="2446200" cy="60984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4720" y="6094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Directions for Constructing Population Pyramids in 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Microsoft Excel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 to:  </a:t>
            </a:r>
            <a:br>
              <a:rPr sz="44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prb.org/Educators/LessonPlans/2005/PopulationBuildingaFoundation/Activities/Activity3/Activity3Pyramid.aspx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380880" y="0"/>
            <a:ext cx="9512280" cy="7861320"/>
          </a:xfrm>
          <a:prstGeom prst="rect">
            <a:avLst/>
          </a:prstGeom>
          <a:ln w="0">
            <a:noFill/>
          </a:ln>
        </p:spPr>
      </p:pic>
      <p:sp>
        <p:nvSpPr>
          <p:cNvPr id="116" name="Line 6"/>
          <p:cNvSpPr/>
          <p:nvPr/>
        </p:nvSpPr>
        <p:spPr>
          <a:xfrm flipH="1" flipV="1">
            <a:off x="5638320" y="3580920"/>
            <a:ext cx="422280" cy="93204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041480" y="5155200"/>
            <a:ext cx="8788320" cy="48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ownload the Pyramids (Excel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4"/>
          <p:cNvSpPr/>
          <p:nvPr/>
        </p:nvSpPr>
        <p:spPr>
          <a:xfrm>
            <a:off x="3720960" y="5181480"/>
            <a:ext cx="12319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152040" y="5719320"/>
            <a:ext cx="2815560" cy="48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on “2000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840" y="3049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4892760" y="1447920"/>
            <a:ext cx="4606920" cy="1904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ste in your Male and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emale (#) in the correct rows (E2-18), (F2-18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5689440" y="5353200"/>
            <a:ext cx="4276800" cy="122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put the value of you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dding up the population from 85+ (see previous slide)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 E19 and F19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" name="Line 3"/>
          <p:cNvSpPr/>
          <p:nvPr/>
        </p:nvSpPr>
        <p:spPr>
          <a:xfrm>
            <a:off x="4470480" y="5715000"/>
            <a:ext cx="1079280" cy="43956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Bahan, Charles A (MNPS)</cp:lastModifiedBy>
  <cp:lastPrinted>2011-10-05T03:38:15Z</cp:lastPrinted>
  <dcterms:modified xsi:type="dcterms:W3CDTF">2011-10-05T03:40:30Z</dcterms:modified>
  <cp:revision>93</cp:revision>
  <dc:subject/>
  <dc:title>Technology Lessons</dc:title>
</cp:coreProperties>
</file>